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098980"/>
        <c:axId val="84175252"/>
      </c:barChart>
      <c:catAx>
        <c:axId val="4109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75252"/>
        <c:crosses val="autoZero"/>
        <c:auto val="1"/>
        <c:lblAlgn val="ctr"/>
        <c:lblOffset val="100"/>
        <c:noMultiLvlLbl val="0"/>
      </c:catAx>
      <c:valAx>
        <c:axId val="84175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9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89CB-7985-4D12-9A55-D3DEECF8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E5B-BA7A-4B41-B997-3E6BA4B8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934-3506-4123-8B0A-21C530C01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CA8-5B31-4909-9559-076ED31B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8A5-7A3F-45F8-879B-F2767CA7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E789-FE1E-40D0-BDDA-D49F737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A85-1F82-4E21-AE76-356E15AE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6AD-A4FA-4863-8AE6-160067B8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172-F200-46B1-B648-4F18F4A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872C-EE1F-424C-80C8-FE82521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232D-52FA-4C99-8982-8D3D0317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82D6-4278-4541-BDCB-232C4B96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E2048-C98B-47BE-AECE-A3C110A640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