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92381"/>
        <c:axId val="94168325"/>
      </c:barChart>
      <c:catAx>
        <c:axId val="36192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68325"/>
        <c:crosses val="autoZero"/>
        <c:auto val="1"/>
        <c:lblAlgn val="ctr"/>
        <c:lblOffset val="100"/>
        <c:noMultiLvlLbl val="0"/>
      </c:catAx>
      <c:valAx>
        <c:axId val="94168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92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652-F9C9-41D2-80C3-C159927B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F4F-4826-4765-A2F8-5F27CFFF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6A9-CDCF-412A-AC4E-1CE1A6E6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689-3704-4A86-AA45-89C6725D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786-7893-4666-91ED-3066C979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BC3-02CA-4F09-986E-4B433092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3D8-656F-42FC-923D-A35BD148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AD0-4614-477F-8D5E-B4515BFC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8AA-F532-4A75-A6BD-A75D9540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707-9107-4A64-A0F0-61927029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616-0F5E-42ED-A31D-CEC602E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E3B-49EC-40AC-AA61-010E8E33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7E14B-553A-46FA-8C92-58207E1A5B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