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67530"/>
        <c:axId val="42654030"/>
      </c:barChart>
      <c:catAx>
        <c:axId val="18367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4030"/>
        <c:crosses val="autoZero"/>
        <c:auto val="1"/>
        <c:lblAlgn val="ctr"/>
        <c:lblOffset val="100"/>
        <c:noMultiLvlLbl val="0"/>
      </c:catAx>
      <c:valAx>
        <c:axId val="42654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67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ADE-E834-41ED-950F-4E2BCF50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C76-D7D1-4288-8F85-C9C6D940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EA4-5BB0-40D4-947C-DD21822A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18E-BDE0-4060-9FAC-3F429202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F0E-F59E-43E6-A677-F29A71E3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764-10F0-4102-BBA1-C560A846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48F-2755-4D56-8A17-4A6093E0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B08-B82F-447C-A1D1-8C8E75B7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003-9875-41BA-9F19-0DB5DD6E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27F-AA75-4354-87D2-FD5EDB6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6B8-266C-4EA7-A623-450CA49C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581-2EE7-4528-A39E-177E31E4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A0969-F6A4-48D1-BE8B-E56EC1DCBC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