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98108"/>
        <c:axId val="44124133"/>
      </c:barChart>
      <c:catAx>
        <c:axId val="88098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24133"/>
        <c:crosses val="autoZero"/>
        <c:auto val="1"/>
        <c:lblAlgn val="ctr"/>
        <c:lblOffset val="100"/>
        <c:noMultiLvlLbl val="0"/>
      </c:catAx>
      <c:valAx>
        <c:axId val="44124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98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D67-EABA-4B94-B3F9-EE8F6FC7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5D0-026A-4EFD-B9F0-82AAA7C6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FEF-7520-41CD-9A3B-EDD33215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B09-962A-4448-827A-BED4D658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125-4969-4543-9630-66A948F8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F21-4143-4217-9419-67ADA51E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94A-BA6A-4443-86BD-A99C6A36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BB0-0264-40B9-B4D1-E37C4A2E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3A5-EBF7-4785-A23A-068562C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CD6-9C13-42E5-AC63-E42C274E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8E2-D6F8-4512-994D-183AF1E8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775-272C-4502-8E6D-73C4BBAE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365BB-B19A-473E-A5DC-02B56DC8B1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