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00983"/>
        <c:axId val="92706413"/>
      </c:barChart>
      <c:catAx>
        <c:axId val="58000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06413"/>
        <c:crosses val="autoZero"/>
        <c:auto val="1"/>
        <c:lblAlgn val="ctr"/>
        <c:lblOffset val="100"/>
        <c:noMultiLvlLbl val="0"/>
      </c:catAx>
      <c:valAx>
        <c:axId val="92706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00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B2A-B03C-4F92-80AC-17B6054D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708-EBA6-4B51-BBF9-3116FEA7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2E3-FEB7-4716-93AA-0A1205BD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CC0-E082-46AB-8272-CECA7549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72C-C5D9-4095-B17E-4E060981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17E-935E-4846-835B-5EA9FBA2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A6D-9A2F-4B72-9967-37168B0C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BC7-AF36-4498-9845-6CC5171E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A72-D6A9-4B27-8B2F-18D0A061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F64-FA16-43AD-9D2B-864101DE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9A7-7A9C-4E5F-8145-D03046D1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6C2-F9E0-4BD6-9706-AFB71080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99F6C-A562-4A2F-B315-AF4DB9DB8A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