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6631021"/>
        <c:axId val="44066877"/>
      </c:barChart>
      <c:catAx>
        <c:axId val="8663102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066877"/>
        <c:crosses val="autoZero"/>
        <c:auto val="1"/>
        <c:lblAlgn val="ctr"/>
        <c:lblOffset val="100"/>
        <c:noMultiLvlLbl val="0"/>
      </c:catAx>
      <c:valAx>
        <c:axId val="4406687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63102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8A14B-D5E8-44FE-BEC1-75DCBF30F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A7394-5B2C-4886-9D52-500B6EA08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4FC9B-E3F1-4193-8B70-F9A4B058B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15898-A012-4165-9816-9E6502A47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9ED51-508A-40B4-835C-9860C69A9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B9221-DFC1-4DBB-ADE5-FB7BE344B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0D55F-24E8-40CD-B499-1D32CB2B0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CAD96-072C-452E-92C7-B60B75D8E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1214B-B4C8-4D9E-8C97-CEF0569FC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CD410-08BA-450A-8752-0F626195D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BE341-DA26-43FA-80F8-AA2A7D020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F2B5A-3455-4BEC-A687-86074748F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1B0FEC-C5E8-4C35-95E0-304A3FE005D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