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32202"/>
        <c:axId val="12925741"/>
      </c:barChart>
      <c:catAx>
        <c:axId val="91532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25741"/>
        <c:crosses val="autoZero"/>
        <c:auto val="1"/>
        <c:lblAlgn val="ctr"/>
        <c:lblOffset val="100"/>
        <c:noMultiLvlLbl val="0"/>
      </c:catAx>
      <c:valAx>
        <c:axId val="12925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32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C7A-E807-464D-81E9-0F12ABA3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875-86C1-46B5-B198-781B2494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670-EEFD-4126-BBCB-A2E0A437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6C7-EA3C-4360-8A54-C1BD8A95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625-498A-4B7E-B5AA-39F3C3FB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F71-F43F-4339-9B23-E20BEA4D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7B8-7582-4127-8332-EED21F1B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C25-B72C-4358-92C1-47B73F8E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C15-2884-4E07-90C1-FC293034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0D9-B52C-4552-9C34-E5E92AC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850-62AB-4CFB-9CD8-F85C2C4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6F6-ED1F-417F-8ABE-F032449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A5683-B59F-40B1-8613-DF7400EB7D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