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60137"/>
        <c:axId val="82804725"/>
      </c:barChart>
      <c:catAx>
        <c:axId val="39860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04725"/>
        <c:crosses val="autoZero"/>
        <c:auto val="1"/>
        <c:lblAlgn val="ctr"/>
        <c:lblOffset val="100"/>
        <c:noMultiLvlLbl val="0"/>
      </c:catAx>
      <c:valAx>
        <c:axId val="82804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60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FBF-5491-41AE-8D74-2A85E455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A44-E25D-4570-8926-E92426B5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7B9-6A6F-44BF-AFB2-2962DAD2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D27-B9B3-4DB9-905A-82F37BC0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B05-E89A-4124-8429-05748EE5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F4D-ECEB-46B3-AACE-7BA1BF3F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303-5E5B-404D-B4AE-BE71E44D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EE6-040A-4E91-8EE2-F5E5F9E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C254-97E5-4068-866D-FC7ED079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AA1-E723-4934-ABC5-C2CC17A0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B3F-A78F-447C-B6EC-4A36C533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CFF-2358-48E1-8D25-4AC85E9A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3D4E4-A2F4-4E49-998A-45BB369C42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