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33271"/>
        <c:axId val="32931082"/>
      </c:barChart>
      <c:catAx>
        <c:axId val="33433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31082"/>
        <c:crosses val="autoZero"/>
        <c:auto val="1"/>
        <c:lblAlgn val="ctr"/>
        <c:lblOffset val="100"/>
        <c:noMultiLvlLbl val="0"/>
      </c:catAx>
      <c:valAx>
        <c:axId val="32931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33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AC7-E4A7-467C-9B6E-AB4AAB7B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2FB-1A23-4486-8B0A-C3D77A9A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F22E-AF4B-4384-9EE7-76E00071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7CB-14AC-4256-8D67-E1F2798A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8F4-3B5A-40E3-84E9-A4F25DF8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EEA3-D8F9-4883-9EA6-4347D6A5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5F1-BBD4-46A4-89FC-171BDB6E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0FC-0DFA-4B53-8731-0A039051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DB83-171C-4D44-9A17-7805588B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B0BC-DAB5-497A-B6C9-6A32B7C3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2F6-9D68-476A-B41B-E8683F58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0F2-C28B-4627-A9E6-77273321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A5739-3CFE-4B02-92D8-3063E4A96E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