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88197"/>
        <c:axId val="63347801"/>
      </c:barChart>
      <c:catAx>
        <c:axId val="92688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47801"/>
        <c:crosses val="autoZero"/>
        <c:auto val="1"/>
        <c:lblAlgn val="ctr"/>
        <c:lblOffset val="100"/>
        <c:noMultiLvlLbl val="0"/>
      </c:catAx>
      <c:valAx>
        <c:axId val="63347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88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C1B-E3B9-415F-AB16-BB82BF66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419-855B-49BD-9B3C-89B6FEB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BA1-0B17-4C0D-8ED7-5A46224A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5B5-BF73-4DEA-854F-E47E4352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F64-5B6F-4255-9B21-F2388D27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FA2-0E70-474D-BC33-745DFB9C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E03-4623-4FAB-B3F6-09250FD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BF2-348E-43D3-80CA-D9B12B83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284-3CCB-4E24-BA17-DD7A9F9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D29-9F15-4B57-972B-ADF74E1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00A-1DF4-4D31-BADA-F67E349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CC9-3045-4EBC-8716-CF9B196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70AFA-BF7F-4E12-AF36-7C83B870C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