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14364"/>
        <c:axId val="97457651"/>
      </c:barChart>
      <c:catAx>
        <c:axId val="89314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57651"/>
        <c:crosses val="autoZero"/>
        <c:auto val="1"/>
        <c:lblAlgn val="ctr"/>
        <c:lblOffset val="100"/>
        <c:noMultiLvlLbl val="0"/>
      </c:catAx>
      <c:valAx>
        <c:axId val="97457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14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AE1-4DA2-4DC7-8DE6-3A8E8531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772-E052-41DE-921A-131BF0AC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533-A7D0-4A1A-A706-9F5B972B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683-FE6D-42E0-8B83-8DB3B551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6DE-9D7C-4ECB-B7CA-FCB4D688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BCE-6B7B-49D8-8615-9D990486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DE6-FD85-46C1-9FF6-EE26DBB6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549-2485-4A3F-A200-4A3CEA85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0B9-9B0D-4A55-B50D-AB1ECB04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D9B-6A5D-485C-BE67-4FE0BC65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AA3-3472-41E7-8F8F-23DB4854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8F5-7709-465B-8A25-4623F7D0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690EE-E208-49BA-B6FC-3A76C4B1B0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