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21033"/>
        <c:axId val="83856169"/>
      </c:barChart>
      <c:catAx>
        <c:axId val="821210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56169"/>
        <c:crosses val="autoZero"/>
        <c:auto val="1"/>
        <c:lblAlgn val="ctr"/>
        <c:lblOffset val="100"/>
        <c:noMultiLvlLbl val="0"/>
      </c:catAx>
      <c:valAx>
        <c:axId val="83856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210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9C3-0AB9-4E1C-B4DA-BDB54350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4E9-9F61-4ACE-87BF-5697BA3B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0BE6-39DE-48CF-870E-F78303E0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C48B-016E-4127-8C2B-3F8441B0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555-2B5D-4E10-824F-92A33BE6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2B36-FFE0-491A-9262-73DF8527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3725-787E-4992-ABD4-6335E4A7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F2A-7F17-432C-B5DF-0AA5AC70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5A6-5F0C-4E5C-A22A-6E396E2E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E0E8-4C80-4179-8EC5-F458665A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1B93-78F7-4471-9EDC-25199A3D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DA95-8EE4-41A5-A6D0-9D23E225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E45C2-2BAA-4609-9DED-B20917E1F0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