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15636"/>
        <c:axId val="4449392"/>
      </c:barChart>
      <c:catAx>
        <c:axId val="88215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9392"/>
        <c:crosses val="autoZero"/>
        <c:auto val="1"/>
        <c:lblAlgn val="ctr"/>
        <c:lblOffset val="100"/>
        <c:noMultiLvlLbl val="0"/>
      </c:catAx>
      <c:valAx>
        <c:axId val="4449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5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802-DDE1-445F-A0E1-0C7C761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6BD-7E50-49C9-892B-2A99561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091-8841-4457-81DF-081E1789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BFB-F7F3-4D45-AB2F-5C090E99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647-A7C7-4698-9283-2E6719A5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D0A-BC98-475C-BDBF-C3BBCBB1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816-44E9-4C4A-9632-C093D0A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1E0-3FB2-47F4-9972-758A789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66F-8EDB-4E15-91F1-A026088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F69-93AB-4547-B289-2F90A3B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C63-0CEA-4CDD-BB3D-F11AFE3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233-5F54-4464-A0A0-2D7E6E7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C48F-523F-4F11-9CC1-F784D2E16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