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07216"/>
        <c:axId val="32252150"/>
      </c:barChart>
      <c:catAx>
        <c:axId val="35607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2150"/>
        <c:crosses val="autoZero"/>
        <c:auto val="1"/>
        <c:lblAlgn val="ctr"/>
        <c:lblOffset val="100"/>
        <c:noMultiLvlLbl val="0"/>
      </c:catAx>
      <c:valAx>
        <c:axId val="32252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07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210-1E72-40DD-9401-35A38A9B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176-0D34-4023-90F9-C708D42C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070-B5D6-4971-9E82-3A8E00FB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D19-6FA5-4C92-9C7B-F1EFF012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50F-3DD8-4FCC-9A00-78D46560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D0A-5CCD-4775-837A-668528DE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A41-DCE3-405D-BE40-3403B31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7D4-D778-4E19-A218-3E05A63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D1A-85D6-4D50-A351-23D09770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977-7979-49DB-A82E-87DCF2EF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DE0-1EF7-4B63-B625-7405262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D9B-930E-4D3C-8CCE-0A209C3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D3EB0-760D-4C3D-9D29-015F4A6CE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