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06809"/>
        <c:axId val="11070306"/>
      </c:barChart>
      <c:catAx>
        <c:axId val="26068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70306"/>
        <c:crosses val="autoZero"/>
        <c:auto val="1"/>
        <c:lblAlgn val="ctr"/>
        <c:lblOffset val="100"/>
        <c:noMultiLvlLbl val="0"/>
      </c:catAx>
      <c:valAx>
        <c:axId val="110703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068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EE53-7E5D-4C59-ABFC-C14D1BE97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10C9-F374-4FD1-AAF1-0FC5CFEF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F56A-B194-4753-8512-CA78779F8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6599-8F7D-4BFE-8E8C-1E8B1BBF7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732B-E89D-4830-89C1-019FE70F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9053-7E6E-4AFD-AE7B-14FE089E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C382-D7BC-4319-B157-4759AD3B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6E00-125A-40FE-A92E-C9052FD25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6FFF-E7B4-4C8B-BE28-C2FA2127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BBF3-9A91-4BA4-B959-890535B2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BD13-91B1-4961-A3AD-F0B29059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C99E-417D-4833-8206-4668419A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7C70F3-DA35-4CF5-9059-5BE5D6100B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