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52873"/>
        <c:axId val="62646961"/>
      </c:barChart>
      <c:catAx>
        <c:axId val="74552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46961"/>
        <c:crosses val="autoZero"/>
        <c:auto val="1"/>
        <c:lblAlgn val="ctr"/>
        <c:lblOffset val="100"/>
        <c:noMultiLvlLbl val="0"/>
      </c:catAx>
      <c:valAx>
        <c:axId val="62646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52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58E-8209-4475-986D-DACB6859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73FC-E7B4-40A9-9D8D-8C251EDA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1C33-E867-4000-A426-14A05BF3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306E-EC73-4A71-81DD-638A2F06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211-7AF5-436A-8E66-0E088176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B1A-9F43-4422-9ECB-A6B921D1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9FE-252B-4C71-9FED-A097AFCE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66D-4BDB-4F8D-A740-677D146A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8EB-F761-41EE-9DD6-C71BEE51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6D6-E818-4F22-9211-7514690F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4B6-B1A9-4775-9EC0-112DB00D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8CBC-655A-4E8A-B2DC-0B5EC3B8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19D58-2969-4DDF-A65A-978DC25721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