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417043"/>
        <c:axId val="79215462"/>
      </c:barChart>
      <c:catAx>
        <c:axId val="514170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15462"/>
        <c:crosses val="autoZero"/>
        <c:auto val="1"/>
        <c:lblAlgn val="ctr"/>
        <c:lblOffset val="100"/>
        <c:noMultiLvlLbl val="0"/>
      </c:catAx>
      <c:valAx>
        <c:axId val="79215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4170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63F-C675-4C81-8651-9967EA83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6CE-1554-4C5A-976A-5F71A8AA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DB53-FA02-493A-BF19-0E9FFE02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EFD-815C-45E7-969A-F4E5F5C91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3F83-EFED-437E-8F6F-07B6F1B2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2A34-555C-425B-9F3F-61EC0012A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610A-2E67-4B70-9AB7-CD07452B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FC9-A14D-47A4-A147-0F0C2096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6A5-4C26-457F-8905-4FCFD585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F61-BC52-429C-9861-384AAAA4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230B-F4C3-4CBB-A771-151D4E32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A17-3414-4EB7-A815-7E0A306C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45A18-0470-4AC0-A48D-F5C9A2231C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