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56939"/>
        <c:axId val="73999116"/>
      </c:barChart>
      <c:catAx>
        <c:axId val="15656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99116"/>
        <c:crosses val="autoZero"/>
        <c:auto val="1"/>
        <c:lblAlgn val="ctr"/>
        <c:lblOffset val="100"/>
        <c:noMultiLvlLbl val="0"/>
      </c:catAx>
      <c:valAx>
        <c:axId val="73999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56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A6A-227F-42F0-A583-98C908B4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9EC-C3D5-4C0F-B6B4-E2C8AAC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CD8-F727-40C4-927B-82E53F14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A99-5A5F-4624-89A1-0117625C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C01-25F8-492B-832C-9EDA4AF8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201-E95F-4D1A-98E4-E48E6F28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196-5978-4F25-90AE-92720DF7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2BD-2CCB-40CA-BEC3-3071A32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981-378E-4F45-8B55-027C1DA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CFC-5F34-4238-BBB2-0B2C526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432-8913-43C6-9F97-A0B95A4D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950-D970-48D2-B80C-F2AE4D0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B9671-6219-41B9-A96C-6FD26D5EC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